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5.png" ContentType="image/png"/>
  <Override PartName="/ppt/media/image6.gif" ContentType="image/gif"/>
  <Override PartName="/ppt/media/image14.png" ContentType="image/png"/>
  <Override PartName="/ppt/media/image5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1.gif" ContentType="image/gif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BEF-7354-4246-8B5C-ED2026DE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F0E-8570-4F9B-8AAE-E5D8EDF9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A68-06A7-47DB-859A-214BDBF5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673-6723-4765-B19E-AD4C5A41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51C-DFAE-4A30-9FFB-3395FAC9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D8C-29DD-445B-9220-DB635A06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AF5-9724-45DF-B0FC-3083394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D97-7CF6-41A5-B417-272B66E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240-AB34-4711-B9AA-17AF43EE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9AA-F390-41A0-8424-7CA786A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31-8675-4ADC-9EE3-9CE2A3E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5C7-7BB7-41CD-85F5-F54C565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00E8-F214-4422-AD21-934E4D25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00400" y="914400"/>
            <a:ext cx="276696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sec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5638680"/>
            <a:ext cx="3562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 Mark Natt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982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e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usually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ing nea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s/wasps/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on the ground near foo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ps/bees flying near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kroaches/Mant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kroaches in the house and mantids on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/Mot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 near flower and moths near l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6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4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8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6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16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8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92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4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88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48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24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88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sect Grup do you see m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my famerly said Bees/Wasps/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this is because there are lots of them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72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16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88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120"/>
                            </p:stCondLst>
                            <p:childTnLst>
                              <p:par>
                                <p:cTn id="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19520" y="1752480"/>
            <a:ext cx="4066920" cy="27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things are dive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larg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4952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019240" cy="51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5791320"/>
            <a:ext cx="201924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8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6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88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2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12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 insect grup into smaller grup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s in them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ria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licer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ra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at I put them into smaller grups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e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et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ty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ckroaches and Praying Mant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ps ants and b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pid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erflies and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2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96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36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6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2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6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16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48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72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32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4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68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d058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ptera: 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 all have wings and can f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ly’s have different numbe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gs and are different shapes and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’s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’s are different colours but usually black and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big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51055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6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8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1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6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2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1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76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eoptera: bee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 are round and can be big or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eetles have w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 rot="10800000">
            <a:off x="2438280" y="5257800"/>
            <a:ext cx="3810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6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16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88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720"/>
                            </p:stCondLst>
                            <p:childTnLst>
                              <p:par>
                                <p:cTn id="2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menoptera: Wasps ants and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ps and bees have stingers and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are small and usually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steal you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ps and bees are small and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have large abdo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5257800"/>
            <a:ext cx="16002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6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8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32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48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2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6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ctyoptera: Cockroaches and Praying Man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roaches and mantids are mostly camoflauge col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have antena and sometimes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ids have big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5505480"/>
            <a:ext cx="241920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5224320"/>
            <a:ext cx="20574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64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6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76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76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pidoptera: Butterflies and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s and Butterflies have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s are usually camouflage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 can be lots of different bright colourful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 and moths are the same kind of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5425920"/>
            <a:ext cx="22100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8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44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76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60"/>
                            </p:stCondLst>
                            <p:childTnLst>
                              <p:par>
                                <p:cTn id="4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rveying my famerly I foun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my famerly have seen all of 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d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s/wasps/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ids/cock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/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6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6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16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88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44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8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88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600"/>
                            </p:stCondLst>
                            <p:childTnLst>
                              <p:par>
                                <p:cTn id="4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</cp:lastModifiedBy>
  <dcterms:modified xsi:type="dcterms:W3CDTF">2009-04-27T10:14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